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95D-86F1-4280-8E18-550089D8B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031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1DB-5D31-45F5-8040-DFD33CDB2C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Attrition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ual, natural reduction in membership or personnel, as through retirement, resignation, or death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A rubbing away or wearing down by friction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 gradual diminution in number or strength because of constant st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55F5-8C54-4082-BD9C-0BC8745A9E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031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FF93-1DAD-4584-ABBC-B1C64153E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BD8A-620B-47B0-8C75-1445F34DC4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hort i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roup of pers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are comm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racteristic or experience within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fine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018-2D33-423D-AB54-B216A0B97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DDAD-07FD-4A65-B02C-9F4D77E11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6B1-24C4-4256-97FE-D21199EB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31D-1A3C-4DE0-B0A1-869A5ABF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6FF-AA40-4D8F-9BFC-D7CE7D37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4A8-2A5B-40BE-B2F8-E84F0A99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A7B5-374B-43BD-BD90-BBC98B2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468-72AB-4636-8E0D-56C1DAC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22BC-4679-4546-A826-CEA9AAE5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571C-248D-41B5-8AC6-C107E73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53EF-30D6-4D8D-B887-15DCF1AA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FD03-85E3-479A-86ED-74D8F7B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BBF6-BDC2-4981-9116-2E3A9CE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B23-5A59-49B1-85EB-391E674A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C730-D897-4740-961E-210D566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8702-2E65-4140-9C3B-5D7EE29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06A9-5830-4F2C-875F-07A9798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BD4B-FB6B-4250-AAF0-4FFE9FCA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4D24-53E6-4CB2-9D95-7B92003C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207-5F16-40D8-A77B-85F0489D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36E-030A-4BFC-BF47-8FA1241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3C6-B8A6-4782-B322-842E22CB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214-BAF8-4BF7-BACC-C84D13B7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D7E-14B7-4402-911F-95530054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726-1BF6-49E6-BBE3-23ED903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3B7-7636-43AF-8F0C-DEA3E44E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1e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037-E88D-49E3-92E8-C73FA2F46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1e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77D8-2549-4228-8F75-03F3DD5D8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hort_(statistics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657600" y="0"/>
            <a:ext cx="5435640" cy="146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e7"/>
                </a:solidFill>
                <a:latin typeface="Arial Rounded MT Bold"/>
                <a:ea typeface="Arial"/>
              </a:rPr>
              <a:t>CHP40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e7"/>
                </a:solidFill>
                <a:latin typeface="Arial Rounded MT Bold"/>
                <a:ea typeface="Arial"/>
              </a:rPr>
              <a:t>Community Health Program - 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91800" y="3276720"/>
            <a:ext cx="3829320" cy="143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Resear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ethodolog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37120" y="1176840"/>
            <a:ext cx="4429800" cy="764280"/>
          </a:xfrm>
          <a:prstGeom prst="rect">
            <a:avLst/>
          </a:prstGeom>
          <a:noFill/>
          <a:ln w="9360">
            <a:solidFill>
              <a:srgbClr val="004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79640" y="2163600"/>
            <a:ext cx="684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Observational / Analytic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6320" y="4802760"/>
            <a:ext cx="3860640" cy="138924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o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4791240" y="4313160"/>
            <a:ext cx="3733560" cy="1604880"/>
          </a:xfrm>
          <a:prstGeom prst="ellipse">
            <a:avLst/>
          </a:prstGeom>
          <a:solidFill>
            <a:srgbClr val="9fabd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7153200" y="4622760"/>
            <a:ext cx="12938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400720" y="5116680"/>
            <a:ext cx="2666880" cy="801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00440" y="5960880"/>
            <a:ext cx="2303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sent: Disea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Past: 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159160" y="462276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e45"/>
                </a:solidFill>
                <a:latin typeface="Arial Rounded MT Bold"/>
              </a:rPr>
              <a:t>Cross -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329240" y="475632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Coh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755320" y="528948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se -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305240" y="3379680"/>
            <a:ext cx="14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sent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isease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315120" y="35337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sent: Exposu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Future: 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ircular Arrow 18"/>
          <p:cNvSpPr/>
          <p:nvPr/>
        </p:nvSpPr>
        <p:spPr>
          <a:xfrm rot="13228800">
            <a:off x="4433400" y="4254480"/>
            <a:ext cx="1044720" cy="900000"/>
          </a:xfrm>
          <a:custGeom>
            <a:avLst/>
            <a:gdLst>
              <a:gd name="textAreaLeft" fmla="*/ 192600 w 1044720"/>
              <a:gd name="textAreaRight" fmla="*/ 852120 w 1044720"/>
              <a:gd name="textAreaTop" fmla="*/ 171360 h 900000"/>
              <a:gd name="textAreaBottom" fmla="*/ 728640 h 900000"/>
            </a:gdLst>
            <a:ahLst/>
            <a:rect l="textAreaLeft" t="textAreaTop" r="textAreaRight" b="textAreaBottom"/>
            <a:pathLst>
              <a:path w="1044575" h="900113">
                <a:moveTo>
                  <a:pt x="56257" y="450056"/>
                </a:moveTo>
                <a:lnTo>
                  <a:pt x="56257" y="450056"/>
                </a:lnTo>
                <a:arcTo wR="466030" hR="393799" stAng="-10799993" swAng="9808785"/>
                <a:lnTo>
                  <a:pt x="1012750" y="319634"/>
                </a:lnTo>
                <a:lnTo>
                  <a:pt x="932061" y="450057"/>
                </a:lnTo>
                <a:lnTo>
                  <a:pt x="787722" y="319634"/>
                </a:lnTo>
                <a:lnTo>
                  <a:pt x="835506" y="319634"/>
                </a:lnTo>
                <a:lnTo>
                  <a:pt x="835506" y="319634"/>
                </a:lnTo>
                <a:arcTo wR="353516" hR="281285" stAng="-1356388" swAng="-9443612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ircular Arrow 19"/>
          <p:cNvSpPr/>
          <p:nvPr/>
        </p:nvSpPr>
        <p:spPr>
          <a:xfrm flipV="1" rot="16939200">
            <a:off x="7754400" y="4401360"/>
            <a:ext cx="1152360" cy="755640"/>
          </a:xfrm>
          <a:custGeom>
            <a:avLst/>
            <a:gdLst>
              <a:gd name="textAreaLeft" fmla="*/ 201960 w 1152360"/>
              <a:gd name="textAreaRight" fmla="*/ 950400 w 1152360"/>
              <a:gd name="textAreaTop" fmla="*/ 144000 h 755640"/>
              <a:gd name="textAreaBottom" fmla="*/ 611640 h 755640"/>
            </a:gdLst>
            <a:ahLst/>
            <a:rect l="textAreaLeft" t="textAreaTop" r="textAreaRight" b="textAreaBottom"/>
            <a:pathLst>
              <a:path w="1152525" h="755650">
                <a:moveTo>
                  <a:pt x="47228" y="377824"/>
                </a:moveTo>
                <a:lnTo>
                  <a:pt x="47228" y="377824"/>
                </a:lnTo>
                <a:arcTo wR="529034" hR="330597" stAng="-10799994" swAng="9795409"/>
                <a:lnTo>
                  <a:pt x="1086277" y="234424"/>
                </a:lnTo>
                <a:lnTo>
                  <a:pt x="1058069" y="377826"/>
                </a:lnTo>
                <a:lnTo>
                  <a:pt x="897364" y="234424"/>
                </a:lnTo>
                <a:lnTo>
                  <a:pt x="921533" y="234424"/>
                </a:lnTo>
                <a:lnTo>
                  <a:pt x="921533" y="234424"/>
                </a:lnTo>
                <a:arcTo wR="434578" hR="236141" stAng="-1353259" swAng="-9446741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Circular Arrow 20"/>
          <p:cNvSpPr/>
          <p:nvPr/>
        </p:nvSpPr>
        <p:spPr>
          <a:xfrm flipV="1" rot="3322800">
            <a:off x="5605920" y="5744160"/>
            <a:ext cx="1044720" cy="677880"/>
          </a:xfrm>
          <a:custGeom>
            <a:avLst/>
            <a:gdLst>
              <a:gd name="textAreaLeft" fmla="*/ 182880 w 1044720"/>
              <a:gd name="textAreaRight" fmla="*/ 861840 w 1044720"/>
              <a:gd name="textAreaTop" fmla="*/ 129240 h 677880"/>
              <a:gd name="textAreaBottom" fmla="*/ 548640 h 677880"/>
            </a:gdLst>
            <a:ahLst/>
            <a:rect l="textAreaLeft" t="textAreaTop" r="textAreaRight" b="textAreaBottom"/>
            <a:pathLst>
              <a:path w="1044575" h="677862">
                <a:moveTo>
                  <a:pt x="42366" y="338930"/>
                </a:moveTo>
                <a:lnTo>
                  <a:pt x="42366" y="338930"/>
                </a:lnTo>
                <a:arcTo wR="479921" hR="296565" stAng="-10799993" swAng="9795364"/>
                <a:lnTo>
                  <a:pt x="983214" y="209114"/>
                </a:lnTo>
                <a:lnTo>
                  <a:pt x="959842" y="338932"/>
                </a:lnTo>
                <a:lnTo>
                  <a:pt x="813749" y="209114"/>
                </a:lnTo>
                <a:lnTo>
                  <a:pt x="834571" y="209114"/>
                </a:lnTo>
                <a:lnTo>
                  <a:pt x="834571" y="209114"/>
                </a:lnTo>
                <a:arcTo wR="395188" hR="211832" stAng="-1354364" swAng="-9445627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171680" y="3362400"/>
            <a:ext cx="4895640" cy="34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b1e45"/>
                </a:solidFill>
                <a:latin typeface="Arial"/>
              </a:rPr>
              <a:t>nbmmb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ubtitle 16"/>
          <p:cNvSpPr/>
          <p:nvPr/>
        </p:nvSpPr>
        <p:spPr>
          <a:xfrm>
            <a:off x="4172040" y="2921040"/>
            <a:ext cx="48956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ime  is  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ight Arrow 6"/>
          <p:cNvSpPr/>
          <p:nvPr/>
        </p:nvSpPr>
        <p:spPr>
          <a:xfrm>
            <a:off x="1657440" y="2362320"/>
            <a:ext cx="6191280" cy="215640"/>
          </a:xfrm>
          <a:prstGeom prst="rightArrow">
            <a:avLst>
              <a:gd name="adj1" fmla="val 28102"/>
              <a:gd name="adj2" fmla="val 126941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8"/>
          <p:cNvSpPr/>
          <p:nvPr/>
        </p:nvSpPr>
        <p:spPr>
          <a:xfrm rot="10800000">
            <a:off x="3279600" y="2785680"/>
            <a:ext cx="2592720" cy="144360"/>
          </a:xfrm>
          <a:prstGeom prst="rightArrow">
            <a:avLst>
              <a:gd name="adj1" fmla="val 28102"/>
              <a:gd name="adj2" fmla="val 126469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9"/>
          <p:cNvSpPr/>
          <p:nvPr/>
        </p:nvSpPr>
        <p:spPr>
          <a:xfrm rot="10800000">
            <a:off x="3281040" y="3331800"/>
            <a:ext cx="2592360" cy="142920"/>
          </a:xfrm>
          <a:prstGeom prst="rightArrow">
            <a:avLst>
              <a:gd name="adj1" fmla="val 28102"/>
              <a:gd name="adj2" fmla="val 127725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5867280" y="261252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5926320" y="314568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852120" y="2297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5105520" y="1981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1908360" y="198108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1"/>
          <p:cNvSpPr/>
          <p:nvPr/>
        </p:nvSpPr>
        <p:spPr>
          <a:xfrm>
            <a:off x="3279600" y="5435640"/>
            <a:ext cx="2592720" cy="144360"/>
          </a:xfrm>
          <a:prstGeom prst="rightArrow">
            <a:avLst>
              <a:gd name="adj1" fmla="val 28102"/>
              <a:gd name="adj2" fmla="val 126469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ight Arrow 22"/>
          <p:cNvSpPr/>
          <p:nvPr/>
        </p:nvSpPr>
        <p:spPr>
          <a:xfrm>
            <a:off x="3281400" y="5981760"/>
            <a:ext cx="2592360" cy="144360"/>
          </a:xfrm>
          <a:prstGeom prst="rightArrow">
            <a:avLst>
              <a:gd name="adj1" fmla="val 28102"/>
              <a:gd name="adj2" fmla="val 126451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2520720" y="530964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2579760" y="584280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6028920" y="582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6053400" y="527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245520" y="2854440"/>
            <a:ext cx="220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-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2904840" y="317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2929320" y="262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20" y="5451480"/>
            <a:ext cx="248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HORT STUDIES</a:t>
            </a:r>
            <a:br>
              <a:rPr sz="2000"/>
            </a:br>
            <a:r>
              <a:rPr b="1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CLINICAL T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traight Connector 3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ight Arrow 35"/>
          <p:cNvSpPr/>
          <p:nvPr/>
        </p:nvSpPr>
        <p:spPr>
          <a:xfrm>
            <a:off x="1581120" y="4770360"/>
            <a:ext cx="6191280" cy="216000"/>
          </a:xfrm>
          <a:prstGeom prst="rightArrow">
            <a:avLst>
              <a:gd name="adj1" fmla="val 28102"/>
              <a:gd name="adj2" fmla="val 126729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6"/>
          <p:cNvSpPr/>
          <p:nvPr/>
        </p:nvSpPr>
        <p:spPr>
          <a:xfrm>
            <a:off x="776160" y="470520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7"/>
          <p:cNvSpPr/>
          <p:nvPr/>
        </p:nvSpPr>
        <p:spPr>
          <a:xfrm>
            <a:off x="5029200" y="4389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8"/>
          <p:cNvSpPr/>
          <p:nvPr/>
        </p:nvSpPr>
        <p:spPr>
          <a:xfrm>
            <a:off x="1832400" y="438948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 rot="5400000">
            <a:off x="5962680" y="162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 rot="5400000">
            <a:off x="2575440" y="414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1300320" y="190512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  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066680" y="2971800"/>
            <a:ext cx="7848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there is good evidence of exposure and diseas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exposure is rare but incidence of disease is higher among expo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follow-up is easy, cohort is s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ample funds are avail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332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ments of cohort stud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57200" y="3246480"/>
            <a:ext cx="82296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ion of study su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taining data on exposur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ion of comparison gro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llow 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77800" y="1893600"/>
            <a:ext cx="50752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study su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84200" y="23623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le population in a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presentativ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Exposure groups of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/professional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Radiologists exposure to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457200" y="2708280"/>
            <a:ext cx="8229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interviews / mailed questionn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of reco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of drug, radiation, type of surgery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examination or special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, serum ch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477800" y="1893960"/>
            <a:ext cx="5075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data o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457200" y="2708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obtaining the data of exposure we can classify cohorts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d and non exposed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degree exposure we can sub classify coh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477800" y="1893960"/>
            <a:ext cx="5075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data o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one cohort involved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 classified and internal comparison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one cohort in the study for the purpose of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ohort of radiologist compared with ophthalmolog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of comparison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457200" y="2484360"/>
            <a:ext cx="82296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with general population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comparison group is available we can compare the rates of study cohort with general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rate of uranium miners with cancer in 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of comparison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457200" y="256068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data about outcome to be determined (morbidity or dea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led questionnaire, telephone calls, personal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medic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ing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illance of death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457200" y="2637000"/>
            <a:ext cx="82296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oss to follow up is inevitable due to death, change of address, migration, change of occup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ollow up is the most critical part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797040"/>
            <a:ext cx="2590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Cont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Defin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haracteristics and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dvantages and 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457200" y="1752480"/>
            <a:ext cx="4838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llow-up Techniques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457200" y="2556000"/>
            <a:ext cx="83059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eriodical medical examinations and mailed questionnai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irect personal interviews or  exami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Videoconference, neighbors, friends and rel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57200" y="1752480"/>
            <a:ext cx="4838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llow-up Techniques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57200" y="255600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4. Lost persons can be traced through letters,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heir relatives or fri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5. Migrated cohort subjects can also be traced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hrough travel and immigration autho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6. Dead persons: local or regional Mortality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Registers or Death  Certific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457200" y="1752480"/>
            <a:ext cx="58672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Problems during Follow-up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533520" y="25909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Follow-up of a large gro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Limited re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ime constra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ucity of trained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457200" y="1752480"/>
            <a:ext cx="4191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ttrition Redu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2895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btaining an informed cons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cording commitment to continue and cooperate in the stud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racing LOST su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nsidering Information of lost subjects at the time of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Keeping non-response at a low level to improve the val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457200" y="2895480"/>
            <a:ext cx="82296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incidence rates among exposed and non expose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4"/>
          <p:cNvSpPr/>
          <p:nvPr/>
        </p:nvSpPr>
        <p:spPr>
          <a:xfrm>
            <a:off x="4961880" y="3587760"/>
            <a:ext cx="40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3726360" y="3587760"/>
            <a:ext cx="3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4921560" y="3035160"/>
            <a:ext cx="40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668040" y="3035160"/>
            <a:ext cx="39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3481920" y="2502000"/>
            <a:ext cx="72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4835520" y="250200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3504240" y="2071800"/>
            <a:ext cx="224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Disease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2262600" y="3035160"/>
            <a:ext cx="72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2397240" y="360036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456120" y="3092400"/>
            <a:ext cx="1628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Exposure</a:t>
            </a: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5696640" y="3032280"/>
            <a:ext cx="110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a+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4731840" y="4114800"/>
            <a:ext cx="83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b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3299040" y="4114800"/>
            <a:ext cx="106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a+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5763240" y="2502000"/>
            <a:ext cx="91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6172200" y="570240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6705720" y="2959200"/>
            <a:ext cx="12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bcff"/>
                </a:solidFill>
                <a:latin typeface="Arial"/>
              </a:rPr>
              <a:t>Study co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6"/>
          <p:cNvSpPr/>
          <p:nvPr/>
        </p:nvSpPr>
        <p:spPr>
          <a:xfrm>
            <a:off x="6858000" y="3544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bcff"/>
                </a:solidFill>
                <a:latin typeface="Arial"/>
              </a:rPr>
              <a:t>Comparison  co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5637600" y="3581280"/>
            <a:ext cx="98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c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6"/>
          <p:cNvSpPr/>
          <p:nvPr/>
        </p:nvSpPr>
        <p:spPr>
          <a:xfrm>
            <a:off x="6026040" y="411480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5715000" y="251460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4527720" y="251460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352680" y="2514600"/>
            <a:ext cx="118764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5715000" y="304164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527720" y="304164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3352680" y="3041640"/>
            <a:ext cx="118764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5715000" y="357516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4527720" y="357516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3352680" y="3575160"/>
            <a:ext cx="118764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5715000" y="4108320"/>
            <a:ext cx="118728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4527720" y="4108320"/>
            <a:ext cx="118728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352680" y="4108320"/>
            <a:ext cx="118764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2165400" y="304164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165400" y="357516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2213640" y="4095720"/>
            <a:ext cx="91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2165400" y="4108320"/>
            <a:ext cx="118728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61"/>
          <p:cNvSpPr/>
          <p:nvPr/>
        </p:nvSpPr>
        <p:spPr>
          <a:xfrm>
            <a:off x="3191760" y="5038560"/>
            <a:ext cx="46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among expos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2"/>
          <p:cNvSpPr/>
          <p:nvPr/>
        </p:nvSpPr>
        <p:spPr>
          <a:xfrm>
            <a:off x="7966440" y="482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3"/>
          <p:cNvSpPr/>
          <p:nvPr/>
        </p:nvSpPr>
        <p:spPr>
          <a:xfrm>
            <a:off x="7820640" y="51912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Straight Connector 64"/>
          <p:cNvSpPr/>
          <p:nvPr/>
        </p:nvSpPr>
        <p:spPr>
          <a:xfrm>
            <a:off x="7785000" y="52671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5313240"/>
            <a:ext cx="1908360" cy="858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cid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66"/>
          <p:cNvSpPr/>
          <p:nvPr/>
        </p:nvSpPr>
        <p:spPr>
          <a:xfrm>
            <a:off x="2769840" y="580068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among unexpos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7"/>
          <p:cNvSpPr/>
          <p:nvPr/>
        </p:nvSpPr>
        <p:spPr>
          <a:xfrm>
            <a:off x="7889040" y="5583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8"/>
          <p:cNvSpPr/>
          <p:nvPr/>
        </p:nvSpPr>
        <p:spPr>
          <a:xfrm>
            <a:off x="7743960" y="59529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traight Connector 69"/>
          <p:cNvSpPr/>
          <p:nvPr/>
        </p:nvSpPr>
        <p:spPr>
          <a:xfrm>
            <a:off x="7709040" y="6029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2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71320" y="2163600"/>
            <a:ext cx="4319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1465200" y="259092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Risk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2106360" y="342900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786680" y="388620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non-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0960" y="3728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305720" y="3728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1711080" y="3505320"/>
            <a:ext cx="59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1835640" y="480060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/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834920" y="524664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/c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1612800" y="49482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660960" y="51004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1305720" y="51004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71320" y="2163600"/>
            <a:ext cx="4319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2590920" y="3697560"/>
            <a:ext cx="2268360" cy="10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among ex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638680" y="3711600"/>
            <a:ext cx="2268720" cy="10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non ex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524680" y="5594400"/>
            <a:ext cx="202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/a+b – c/c+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124440" y="6127920"/>
            <a:ext cx="95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/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295280" y="4572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1299600" y="582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1905120" y="457344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1811160" y="5791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2468880" y="4948200"/>
            <a:ext cx="52952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ex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2377800" y="446400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2311920" y="56674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Minus 16"/>
          <p:cNvSpPr/>
          <p:nvPr/>
        </p:nvSpPr>
        <p:spPr>
          <a:xfrm>
            <a:off x="4944960" y="3886200"/>
            <a:ext cx="541440" cy="863640"/>
          </a:xfrm>
          <a:custGeom>
            <a:avLst/>
            <a:gdLst>
              <a:gd name="textAreaLeft" fmla="*/ 71640 w 541440"/>
              <a:gd name="textAreaRight" fmla="*/ 469800 w 541440"/>
              <a:gd name="textAreaTop" fmla="*/ 404640 h 863640"/>
              <a:gd name="textAreaBottom" fmla="*/ 459000 h 863640"/>
            </a:gdLst>
            <a:ahLst/>
            <a:rect l="textAreaLeft" t="textAreaTop" r="textAreaRight" b="textAreaBottom"/>
            <a:pathLst>
              <a:path w="541337" h="863600">
                <a:moveTo>
                  <a:pt x="71754" y="404692"/>
                </a:moveTo>
                <a:lnTo>
                  <a:pt x="469583" y="404692"/>
                </a:lnTo>
                <a:lnTo>
                  <a:pt x="469583" y="458908"/>
                </a:lnTo>
                <a:lnTo>
                  <a:pt x="71754" y="4589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1467360" y="2666880"/>
            <a:ext cx="370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able Risk (AR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295280" y="1981080"/>
          <a:ext cx="6477120" cy="411480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Smo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e45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Lung can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e45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Smo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69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7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29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99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18" name="Text Box 130"/>
          <p:cNvSpPr/>
          <p:nvPr/>
        </p:nvSpPr>
        <p:spPr>
          <a:xfrm>
            <a:off x="990720" y="609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 RR and AR for abo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457200" y="24084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ce of lung cancer among smo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/7000  = 10 per 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ce of lung cancer among non-smo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/3000 = 1 per 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R = 10 / 1 =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lung cancer is 10 times more common among smokers than non smok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 = 10 – 1 / 10 X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90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90% of the cases of lung cancer among smokers are attributed to their habit of smo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182760" y="967680"/>
            <a:ext cx="2882880" cy="520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983920" y="1738440"/>
            <a:ext cx="23922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420200" y="1784520"/>
            <a:ext cx="251712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554880" y="2845800"/>
            <a:ext cx="1979640" cy="825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peri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553080" y="4515480"/>
            <a:ext cx="2016360" cy="1191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nical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486960" y="3065760"/>
            <a:ext cx="1780920" cy="52056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aly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488040" y="3890880"/>
            <a:ext cx="1142280" cy="82548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28480" y="2978280"/>
            <a:ext cx="203544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Descrip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919080" y="3882600"/>
            <a:ext cx="184788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as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882000" y="4466880"/>
            <a:ext cx="178380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ase s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896040" y="5076360"/>
            <a:ext cx="208260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ross 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910800" y="5685840"/>
            <a:ext cx="160704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Ec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3486240" y="5190120"/>
            <a:ext cx="1102680" cy="45972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o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4859280" y="1552680"/>
            <a:ext cx="86508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4038480" y="1625760"/>
            <a:ext cx="64800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6012000" y="2246400"/>
            <a:ext cx="7920" cy="2863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6019920" y="510552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6012000" y="325440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2878200" y="2390760"/>
            <a:ext cx="86508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H="1">
            <a:off x="2057040" y="2463840"/>
            <a:ext cx="64764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5257800" y="3505320"/>
            <a:ext cx="792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4648320" y="4267080"/>
            <a:ext cx="6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4648320" y="5410080"/>
            <a:ext cx="6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457200" y="3429000"/>
            <a:ext cx="7920" cy="251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477720" y="41148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457200" y="472428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457200" y="52578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57200" y="59436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1541520" y="11160"/>
            <a:ext cx="402264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770200" y="4935240"/>
            <a:ext cx="2015640" cy="138924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o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457200" y="1752480"/>
            <a:ext cx="3809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 Ideal Cohort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914400" y="266688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ideal cohort should b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abl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ooperativ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ommit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ll-infor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457200" y="1752480"/>
            <a:ext cx="2819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dvantage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62120" y="23623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No temporal ambiguity (suggests cause-effect relationsh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alculation of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ncidence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uitable for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are expo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everal outcomes can be studied, after follow-up st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Factors associated with selection cannot influence disease status and hence the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457200" y="1752480"/>
            <a:ext cx="65516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isadvantages 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762120" y="25146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Expen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ime-consum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May be impract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Loss to follow-up may affect sample-siz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rcRect l="15742" t="18395" r="15158" b="21341"/>
          <a:stretch/>
        </p:blipFill>
        <p:spPr>
          <a:xfrm>
            <a:off x="838080" y="1533600"/>
            <a:ext cx="7991640" cy="540072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04920" y="2695680"/>
            <a:ext cx="7696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Arial Rounded MT Bold"/>
                <a:hlinkClick r:id="rId1"/>
              </a:rPr>
              <a:t>cohort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is a group of people who share a common characteristic or experi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8600" y="372276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hort study:   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observational,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 analytic,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 longitudinal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epidemiologic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tudy in which a particular outcome, such as death from a heart attack, is compared in groups of people who are alike in most ways but differ by a certain characteristic, such as smoking 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(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EXPOSURE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554120" y="546840"/>
            <a:ext cx="2882880" cy="520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1541520" y="11160"/>
            <a:ext cx="402264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447920" y="9144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554480" y="137160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752480"/>
            <a:ext cx="2362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efin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457200" y="1752480"/>
            <a:ext cx="35272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haracteristics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85800" y="2327400"/>
            <a:ext cx="777240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 “cohort” is a group of people, referred to as “disease-free population” or “population at ris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 survey is first carried out to exclude prevalent cases from the co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We know the exposure status, looking for the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 period of "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“ is specified, for possible new cases' occur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457200" y="1752480"/>
            <a:ext cx="1905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ype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06600" y="2438280"/>
            <a:ext cx="77724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wo types are recogniz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ospective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longitudinal): forward in time follow-up stu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etrospective</a:t>
            </a:r>
            <a:r>
              <a:rPr b="1" lang="en-US" sz="3000" spc="-1" strike="noStrike">
                <a:solidFill>
                  <a:srgbClr val="00ff00"/>
                </a:solidFill>
                <a:latin typeface="Arial Rounded MT Bold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historical): backward in time study (depends on records: medical / employment).  This is the type preferred under occupational setting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9"/>
          <p:cNvSpPr/>
          <p:nvPr/>
        </p:nvSpPr>
        <p:spPr>
          <a:xfrm>
            <a:off x="468360" y="2763720"/>
            <a:ext cx="7920000" cy="2951280"/>
          </a:xfrm>
          <a:prstGeom prst="rect">
            <a:avLst/>
          </a:prstGeom>
          <a:solidFill>
            <a:srgbClr val="0b1e4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8200" y="39164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3200" y="3688920"/>
            <a:ext cx="129528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Arial Rounded MT Bold"/>
              </a:rPr>
              <a:t>People withou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683240" y="339084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Ex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719600" y="4218480"/>
            <a:ext cx="12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Not ex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588000" y="31629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588000" y="3626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No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588000" y="427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588000" y="481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No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2266920" y="398772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4138560" y="34671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4138560" y="458784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6154560" y="3267000"/>
            <a:ext cx="360720" cy="289080"/>
          </a:xfrm>
          <a:prstGeom prst="rightArrow">
            <a:avLst>
              <a:gd name="adj1" fmla="val 50000"/>
              <a:gd name="adj2" fmla="val 31196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6154560" y="3699000"/>
            <a:ext cx="360720" cy="28872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6154560" y="4348080"/>
            <a:ext cx="360720" cy="289080"/>
          </a:xfrm>
          <a:prstGeom prst="rightArrow">
            <a:avLst>
              <a:gd name="adj1" fmla="val 50000"/>
              <a:gd name="adj2" fmla="val 31196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6154560" y="4851360"/>
            <a:ext cx="360720" cy="289080"/>
          </a:xfrm>
          <a:prstGeom prst="rightArrow">
            <a:avLst>
              <a:gd name="adj1" fmla="val 50000"/>
              <a:gd name="adj2" fmla="val 31196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57200" y="1752480"/>
            <a:ext cx="26272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esig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Arrow 6"/>
          <p:cNvSpPr/>
          <p:nvPr/>
        </p:nvSpPr>
        <p:spPr>
          <a:xfrm>
            <a:off x="1657440" y="2789280"/>
            <a:ext cx="6191280" cy="216000"/>
          </a:xfrm>
          <a:prstGeom prst="rightArrow">
            <a:avLst>
              <a:gd name="adj1" fmla="val 28102"/>
              <a:gd name="adj2" fmla="val 126729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ight Arrow 7"/>
          <p:cNvSpPr/>
          <p:nvPr/>
        </p:nvSpPr>
        <p:spPr>
          <a:xfrm>
            <a:off x="3197160" y="3378240"/>
            <a:ext cx="2592360" cy="144360"/>
          </a:xfrm>
          <a:prstGeom prst="rightArrow">
            <a:avLst>
              <a:gd name="adj1" fmla="val 28102"/>
              <a:gd name="adj2" fmla="val 126451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ight Arrow 8"/>
          <p:cNvSpPr/>
          <p:nvPr/>
        </p:nvSpPr>
        <p:spPr>
          <a:xfrm>
            <a:off x="3198960" y="4046400"/>
            <a:ext cx="2592360" cy="144720"/>
          </a:xfrm>
          <a:prstGeom prst="rightArrow">
            <a:avLst>
              <a:gd name="adj1" fmla="val 28102"/>
              <a:gd name="adj2" fmla="val 126137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438280" y="325152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497320" y="390780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594648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5971680" y="3218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852120" y="272412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562720" y="2408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1908360" y="2408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0280" y="4689360"/>
            <a:ext cx="248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HORT STUDIES</a:t>
            </a:r>
            <a:br>
              <a:rPr sz="2000"/>
            </a:b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LINICAL T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 rot="5400000">
            <a:off x="2498760" y="2103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ight Arrow 2"/>
          <p:cNvSpPr/>
          <p:nvPr/>
        </p:nvSpPr>
        <p:spPr>
          <a:xfrm>
            <a:off x="1657440" y="2362320"/>
            <a:ext cx="6191280" cy="215640"/>
          </a:xfrm>
          <a:prstGeom prst="rightArrow">
            <a:avLst>
              <a:gd name="adj1" fmla="val 28102"/>
              <a:gd name="adj2" fmla="val 126941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ight Arrow 10"/>
          <p:cNvSpPr/>
          <p:nvPr/>
        </p:nvSpPr>
        <p:spPr>
          <a:xfrm rot="10800000">
            <a:off x="3196800" y="3207960"/>
            <a:ext cx="2592360" cy="144360"/>
          </a:xfrm>
          <a:prstGeom prst="rightArrow">
            <a:avLst>
              <a:gd name="adj1" fmla="val 28102"/>
              <a:gd name="adj2" fmla="val 126451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1"/>
          <p:cNvSpPr/>
          <p:nvPr/>
        </p:nvSpPr>
        <p:spPr>
          <a:xfrm rot="10800000">
            <a:off x="3198600" y="4046400"/>
            <a:ext cx="2592360" cy="144720"/>
          </a:xfrm>
          <a:prstGeom prst="rightArrow">
            <a:avLst>
              <a:gd name="adj1" fmla="val 28102"/>
              <a:gd name="adj2" fmla="val 126137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784840" y="308160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843880" y="390780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852120" y="2297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562720" y="1981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1908360" y="198108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3047040" y="481176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-CONTRO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82204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84760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 rot="5400000">
            <a:off x="5962680" y="162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45:47Z</dcterms:created>
  <dc:creator>Adrienne and John Eastwood</dc:creator>
  <dc:description/>
  <dc:language>en-US</dc:language>
  <cp:lastModifiedBy>mcst10</cp:lastModifiedBy>
  <cp:lastPrinted>2012-06-13T05:31:23Z</cp:lastPrinted>
  <dcterms:modified xsi:type="dcterms:W3CDTF">2013-09-30T07:02:46Z</dcterms:modified>
  <cp:revision>144</cp:revision>
  <dc:subject/>
  <dc:title>Abnormal Psychology</dc:title>
</cp:coreProperties>
</file>